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4081-F92E-4A13-9A1D-110D396B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FEDE-A226-41DE-BF3B-4DCBE4E6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726A-C3CF-4214-8E2C-3E81B7EF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48C-39E6-4E1A-9986-98717180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0F5F-2662-448F-9A23-7330D2FB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C323-4120-47DB-9094-24653D4F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BFAE-C117-405C-901B-AE701C75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509B-78E9-488C-9FA3-02BB0185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40B0-6BA0-48F3-B2E1-4CD14EF0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613E-C1B6-43A6-A55A-DB309001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3747-D758-4D04-85AF-61799C06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37FE-FC8D-44D7-A3AA-5394B5F2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E147-3D53-435B-B20E-96E855EB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B0A0-5DE0-4153-9D8E-D7E5DF23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E0C1-D21D-4CEA-9AA1-3CE6C672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A0B6-5B25-42CE-A538-AB95C0F0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8EFC-B110-437F-9DE0-872FBB9A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68EF8-C210-4AA5-9A86-EED1BAC7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E633B-0111-4DDA-ADF1-5F6A9BB4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F6793-FB5E-465B-A00F-3DFC1B33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5E1CE-E98D-48A2-A398-FF0A18C5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3EDDA-7AC8-4988-BBA8-8969CDF7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5FA1-4E4B-4ADC-B43B-1B039E91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F5700-4A3D-4F98-963E-09550AFD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B3A2A-E3D9-4AFB-A767-BD67C7C3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2A67E-8D93-4BA1-BFFB-0D2597F3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49AC3-AC2E-481F-9445-C2F5364C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76185-5538-44FD-BF4C-67B0A26C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8044F-4790-461A-B7A2-E1F758E5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B40BA-11CF-4252-9E73-55005654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3BEE9-A992-414E-A088-0230C648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ED671-6A23-4D6D-9FD8-CC627D9F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6A0CC-DBD0-4844-A804-856BDDB0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E80-9237-44F6-A7B9-BC711E6D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CD224-7DBC-4115-BF35-D2B41F8D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E0DAF-8E14-47BC-AD4F-AFA0612E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4B4A6-1BAD-4D0B-8791-56BEB5F1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A8D45-DE2B-471A-86F2-4D78869F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3E2EE-2707-4D89-AC58-8491F0FE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D2DB6-567C-40A6-89DB-4EE3FE06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210E7-62D8-4339-91CD-308D5E1F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51805-7A4C-45FF-B827-7F574847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6D198-9841-407A-A61A-BA237F3C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495C-DC62-4BEC-8B69-BF872EFE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EE1A-BE02-4D2B-9272-8DAC3836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F540-C4D1-4F58-B0C6-232BCDDC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5F0E-3783-46F0-864E-05C73E7E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6B4B-0E27-4EDA-8EAC-9113F74C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67E3-356E-43E0-AFE7-EEA917CCB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cc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69C5-AAD9-4119-912A-D7402F4B0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21C4-D03D-4188-A377-92578595AE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cc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cc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44EE-8C3C-4F9A-87C2-39114404F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8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 Overloa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main(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er c1, c2; //c1=0, c2=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c1=” &lt;&lt; c1.get_count(); //displ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c2=” &lt;&lt; c2.get_count(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+c1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= ++c1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c1=” &lt;&lt; c1.get_count(); //displ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c2=” &lt;&lt; c2.get_count(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= c1++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c1=” &lt;&lt; c1.get_count(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c2=” &lt;&lt; c2.get_count() &lt;&lt; endl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0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verloading Binary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loaded operator always requires one less argument than its number of operand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one operand is the object of which the operator is a memb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3 = dist1 + dist2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rgument on 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eft si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he operator (dist1) is the object of which the operator is a member. The object on 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ight si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he operator (dist2) must be furnished as an argument to the operator. The operator returns a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ithmetic Operators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,-,*,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include &lt;iostream&gt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istance //English Distance cla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: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feet;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inches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: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() : feet(0), inches(0.0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}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(int ft, float in) : feet(ft), inches(i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}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getdist(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Enter feet: “; cin &gt;&gt; feet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Enter inches: “; cin &gt;&gt; inches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showdist() con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cout &lt;&lt; feet &lt;&lt; “\’-” &lt;&lt; inches &lt;&lt; ‘\”’; }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operator + ( Distance ) const; //add 2 distan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Distance::operator + (Distance d2) cons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f = feet + d2.feet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i = inches + d2.inche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i &gt;= 12.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-= 12.0; //by 12.0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++; //increase feet by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Distance(f,i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dist1, dist3, dist4; //define dist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1.getdist(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dist2(11, 6.25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3 = dist1 + dist2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4 = dist1 + dist2 + dist3; //multiple ‘+’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dist1 = “; dist1.showdist(); cout &lt;&lt; end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dist2 = “; dist2.showdist(); cout &lt;&lt; end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dist3 = “; dist3.showdist(); cout &lt;&lt; end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dist4 = “; dist4.showdist(); cout &lt;&lt; end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mparison is made by converting both distances to floating-point feet, and comparing them using the normal &lt; operato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operator&lt;() function has a return type of bool. The return value is false or true, depending on the comparison of the two distanc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ember that the use of the conditional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return (bf1 &lt; bf2) ? true : fals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include &lt;iostream&gt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istan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feet;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inches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()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eet(0), inches(0.0) { }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(int ft, float in)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eet(ft), inches(in)  { }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getdist(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Enter feet: “; cin &gt;&gt; feet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Enter inches: “; cin &gt;&gt; inches;</a:t>
            </a:r>
            <a:r>
              <a:rPr b="0" lang="fr-F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showdist() cons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cout &lt;&lt; feet &lt;&lt; “\’-” &lt;&lt; inches &lt;&lt; ‘\”’; }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l 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 &lt;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istance) const;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l Distance::operator &lt; (Distance d2) con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bf1 = feet + inches/12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bf2 = d2.feet + d2.inches/12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(bf1 &lt; bf2) ? true : fals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main(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dist1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1.getdist(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dist2(6, 2.5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dist1 = “; dist1.showdist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dist2 = “; dist2.showdist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 dist1 &lt; dist2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dist1 is less than dist2”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dist1 is greater than (or equal to) dist2”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endl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Arithmetic Assignment Oper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include &lt;iostream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ist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fee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inche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(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eet(0), inches(0.0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(int ft, float in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eet(ft), inches(i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getdis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Enter feet: “; cin &gt;&gt; fee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Enter inches: “; cin &gt;&gt; inches;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showdist() con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cout &lt;&lt; feet &lt;&lt; “\’-” &lt;&lt; inches &lt;&lt; ‘\”’; 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operator += ( Distance 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Distance::operator += (Distance d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t += d2.feet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hes += d2.inche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inches &gt;= 12.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t+=inches/12.0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hes %= 12.0;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main(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dist1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1.getdist(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dist1 = “; dist1.showdist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dist2(11, 6.25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dist2 = “; dist2.showdist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1 += dist2; //dist1 = dist1 + dist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After addition,”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dist1 = “; dist1.showdist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endl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include &lt;iostream&gt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ist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fee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inche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(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eet(0), inches(0.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}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(int ft, float in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eet(ft), inches(i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}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getdist(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Enter feet: “; cin &gt;&gt; feet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Enter inches: “; cin &gt;&gt; inches;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showdist() con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cout &lt;&lt; feet &lt;&lt; “\’-” &lt;&lt; inches &lt;&lt; ‘\”’; }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operator &lt; ( Distance 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l Distance::operator &lt; (Distance d2) con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bf1 = feet + inches/12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bf2 = d2.feet + d2.inches/12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(bf1 &lt; bf2) ? true : fals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main(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dist1;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1.getdist();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dist2(6, 2.5);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display dista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dist1 = “;  dist1.showdist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dist2 = “;  dist2.showdist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 dist1 &lt; dist2 )             //overloaded ‘&lt;’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dist1 is less than dist2”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dist1 is greater than (or equal to) dist2”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endl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 Overlo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rator overloading is one of the most exciting features of object-oriented program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, statements l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3.addobjects(d1, d2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changed to the much more read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3 = d1 + d2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ing by Refe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include &lt;iostream&gt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namespace std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x;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&amp; setx();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main(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        x=20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ut &lt;&lt; “Old x=" &lt;&lt; x &lt;&lt; endl;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x() = 92;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New x=" &lt;&lt; x &lt;&lt; endl;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0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&amp; setx(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x;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is that it is not possible to return a constant from a function that returns by refe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&amp; setx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3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not also possible to return a reference to a local variabl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&amp; setx(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x = 3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x;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function’s local variables are probably destroyed when the function returns, and it doesn’t make sense to return a reference to something that no longer exis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 Function Arg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aFunc(int&amp; a, const int&amp; b)   //defini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107;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 = 111;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bscript Operator ([]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bscript operator, [], which is normally used to access array elements, can be overload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a “safe” array: One that automatically checks the index numbers you use to access the array, to ensure that they are not out of boun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include &lt;iostream.h&gt;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 int LIMIT = 100;         //array siz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safear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arr[LIMIT]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&amp; operator [](int n)  //return by refere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 n&lt; 0 || n&gt;=LIMIT 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"\nIndex out of bounds\n"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exit(1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arr[n]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main(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aray sa1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(int j=0; j&lt;LIMIT; j++)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1[j] = j*10;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(int j=0; j&lt;LIMIT; j++)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temp = sa1[j];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"Element " &lt;&lt; j &lt;&lt; " is " &lt;&lt; temp &lt;&lt; endl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0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atenating Str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+ operator cannot be used to concatenate C-strings. That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3 = str1 + str2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include &lt;iostream&gt; using namespace std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include &lt;string.h&gt; #include &lt;stdlib.h&gt;      //for exit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String             //user-defined string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um { SZ=80 };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str[SZ];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()                       //constructor, no ar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strcpy(str, “”); 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( char s[] )             //constructor, one a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strcpy(str, s); 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display() const           //display the St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cout &lt;&lt; str; 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operator + (String ss) const  //add Str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operator + (String ss) con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temp;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 strlen(str) + strlen(ss.str) &lt; SZ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cpy(temp.str, str);   //copy this string to te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cat(temp.str, ss.str);  //add the argument st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cout &lt;&lt; “\nString overflow”; exit(1); 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emp;                //return temp St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main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s1 = “\nMerry Christmas!  “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s2 = “Happy new year!”;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s3;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.display();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.display(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.display(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 = s1 + s2;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.display();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endl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Exercis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ng Str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== operator to compare two of our homemade String objects, returning true if they’re the same and false if they’re diffe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include &lt;iostream&gt; using namespace std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include &lt;string.h&gt; #include &lt;stdlib.h&gt;      //for exit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String             //user-defined string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SZ=80;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str[SZ];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()                       //constructor, no ar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strcpy(str, “”);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( char s[] )       //constructor, one a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strcpy(str, s);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display() const           //display the 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cout &lt;&lt; str;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overload an operator in order to use it with classes we decl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 functions, which are regular functio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se names are the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perator keyword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ed by the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perator sig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we want to overloa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ntax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operator sign (parameters) { /*...*/ 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ator +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l operator == (String ss) const  //check for e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( strcmp(str, ss.str)==0 ) ? true : false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mai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s1 = “yes”;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s2 = “no”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s3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Enter ‘yes’ or ‘no’: “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.getstr();                        //get String from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s3==s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You typed yes\n”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(s3==s2)  cout &lt;&lt; “You typed no\n”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You didn’t follow instructions\n”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0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s Between Basic 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var = floatvar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where intvar is of type int and floatvar is of type flo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uch conversions is implicit con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var = static_cast&lt;int&gt;(floatvar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uch conversion is explicit con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s Between Objects and Basic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nvert between user-defined data types and basic types, can’t rely on built-in conversion rout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write these routines oursel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include &lt;iostream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is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 float MTF;            //meters to f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fee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inch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feet(0), inches(0.0), MTF(3.280833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(float meter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MTF(3.280833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     float fltfeet = MTF * meters;  //convert to float f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t = int(fltfeet);           //feet is integer p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hes = 12*(fltfeet-feet);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(int ft, float i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eet(ft),inches(in), MTF(3.280833F) {  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getdist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Enter feet: “;  cin &gt;&gt; fee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Enter inches: “;  cin &gt;&gt; inch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showdist() con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feet &lt;&lt; “\’-” &lt;&lt; inches &lt;&lt; ‘\”’; 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 floa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//conversion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        float fracfeet = inches/12;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cfeet += static_cast&lt;float&gt;(feet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fracfeet/MTF;        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main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mtr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dist1 = 2.35F;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dist1 = “; dist1.showdist(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trs = static_cast&lt;float&gt;(dist1)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uses conversion operator for Distance to 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dist1 = “ &lt;&lt; mtrs &lt;&lt; “ meters\n”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dist2(5, 10.25);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trs = dist2;                  //also uses conversion 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dist2 = “ &lt;&lt; mtrs &lt;&lt; “ meters\n”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Basic to User-Defi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(float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fltfeet = MTF * meter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t = int(fltfeet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hes = 12 * (fltfeet-feet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dist1 = 2.35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User-Defined to Ba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 float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fracfeet = inches/12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cfeet += float(feet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fracfeet/MTF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trs = static_cast&lt;float&gt;(dist1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trs = dist2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s Between Objects of Different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rat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&amp; rodents = rats;    // makes rodents an alias for r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context, &amp; is not the address operator. Instead, it serves as part of the type identifier. This int &amp; means reference-to-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”, rodents address = “ &lt;&lt; &amp;rodents &lt;&lt; endl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address operator, with &amp;rodents representing the address of the variable to which rodents ref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0" y="609480"/>
            <a:ext cx="9155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0" y="838080"/>
            <a:ext cx="919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ist of all the operators that can be overload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oading Unary Ope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ary operators act on only one opera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ary operators are the increment and decrement operators ++ and  --, and the unary min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+c1; --c1; -c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pass references, however, the function can work with the original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main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wallet1 = 30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wallet2 = 35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wallet1 = $” &lt;&lt; wallet1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 wallet2 = $” &lt;&lt; wallet2 &lt;&lt; endl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Using references to swap contents:\n”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app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amp;wallet1, &amp;wallet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s that cannot be overloaded are the member access or dot operator 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.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scope resolution operator 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::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conditional operator 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?: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pointer-to-member operator 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-&gt;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Between C-Strings and String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include &lt;iostream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namespace std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include &lt;string.h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St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um { SZ = 80 };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str[SZ];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str[0] = ‘\0’; 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( char s[] )        //1-arg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strcpy(str, s); }    //   convert C-string to St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display() const      //display the St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cout &lt;&lt; str; 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 char*()          //conversion oper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return str; }        //convert String to C-st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0" y="0"/>
            <a:ext cx="9020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mai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s1;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use no-arg constru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xstr[] = “CHARLES &amp; KEITH “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 = xstr; //use 1-arg constru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.display(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s2 = “COACH”; //uses 1-arg constru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static_cast&lt;char*&gt;(s2); //use conversion oper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endl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0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*is similar to char[]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#include &lt;iostream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istance //English Distanc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fee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inch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() : feet(0), inches(0.0)  {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(int ft, float in) : feet(ft), inches(i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getdist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Enter feet: “; cin &gt;&gt; fee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Enter inches: “; cin &gt;&gt; inch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showdist() con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cout &lt;&lt; feet &lt;&lt; “\’” &lt;&lt; inches &lt;&lt; ‘\”’;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operator - ( Distance ) const; //add 2 di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Distance::operator -(Distance d2) const //return s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d2.feet&gt;fe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d2.inches&gt;=inch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i=d2.inches-inche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=d2.inches+12-inches; int f=d2.feet-1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=d2.feet-fee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((d2.feet==feet)&amp;&amp;(d2.inches&gt;inches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=d2.inches-inches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=d2.feet-fee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inches&gt;=d2.inch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=inches-d2.inche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=inches+12-d2.inches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=feet-1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=feet-d2.fee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Distance(f,i)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main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dist1, dist3, dist4; //define di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1.getdist()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dist2(11, 6.25)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3 = dist1 - dist2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dist1 = “; dist1.showdist(); cout &lt;&lt; endl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dist2 = “; dist2.showdist(); cout &lt;&lt; endl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dist3 = “; dist3.showdist(); cout &lt;&lt; endl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#include &lt;iostream&gt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Tim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hrs, mins, secs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() : hrs(0), mins(0), secs(0)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no-arg constructo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 }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(int h, int m, int s) : hrs(h), mins(m), secs(s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 }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display() cons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cout &lt;&lt; hrs &lt;&lt; “:” &lt;&lt; mins &lt;&lt; “:” &lt;&lt; secs; }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perator +(Time t2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int s = secs + t2.secs;    int m = mins + t2.mins;  int h =hrs + t2.hrs;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 s &gt; 59 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 s -= 60; m++; }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 m &gt; 59 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m -= 60; h++; }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ime(h,m,s);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main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time1(5, 59, 59);         //creates and initial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time2(4, 30, 30);         //   two 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time3;                          //create another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3=time1+ time2;        //add two 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time3 = “; time3.display(); //display resu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endl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priv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double 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(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n=0;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(long double 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n=a;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show()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cout&lt;&lt;“Data=”&lt;&lt;n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getdata()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cout&lt;&lt;“Enter any number\n”;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&gt;&gt;n;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operator +(Int I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double num=n+I2.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num&gt; 2147483648 )  {cout&lt;&lt;"OverFlow\n";   return 1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Int(num); 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operator-( Int I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double nu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n&gt;=I2.n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=n-I2.n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Int(num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cout&lt;&lt;"You should substract small number from large number\n"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0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oading Unary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include &lt;iostream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Coun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main(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signed int count;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er c1,c2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ut &lt;&lt; “\nc1=” 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er(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unt(0) { }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1.get_count(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signed int get_count(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ut &lt;&lt; “\nc2=” &lt;&lt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return count; }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2.get_count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ator +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+c1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+coun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+c2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No arguments and no return ty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ut &lt;&lt; “\nc1=” &lt;&lt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1.get_count(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“\nc2=” &lt;&lt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.get_count() 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0;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num&gt;- 2147483648 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&lt;&lt;"UnderFlow\n"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operator *(Int I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double num=n*I2.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num&gt; 2147483648 )  { cout&lt;&lt;"OverFlow\n";  return 1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Int(num);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operator/(Int I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double num;  num=n/I2.n;  return Int(num);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 main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Int I1, I2,I3,I4,I5,I6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1.getdata();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2.getdata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3=I1+I2;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4=I1-I2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5=I1*I2;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6=I1/I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3.show();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4.show();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5.show()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6.show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0;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#include &lt;iostream&gt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Tim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hrs, mins, secs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() : hrs(0), mins(0), secs(0)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no-arg constructo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 }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(int h, int m, int s) : hrs(h), mins(m), secs(s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 }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display() cons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cout &lt;&lt; hrs &lt;&lt; “:” &lt;&lt; mins &lt;&lt; “:” &lt;&lt; secs; }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operator +(time t1, time t2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s = t1.secs + t2.secs;  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 secs &gt; 59 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 secs -= 60; mins++; }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s += t1.mins + t2.mins; 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 mins &gt; 59 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mins -= 60; hrs++; }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s += t1.hrs + t2.hrs; 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perator ++ (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s,m,h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hrs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mins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++sec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s&gt;=6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++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m&gt;=6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++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ime(h,m,s)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perator ++ (int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(postf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s,m,h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hrs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mins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secs++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s&gt;=6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++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m&gt;=6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++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ime(h,m,s)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perator -- (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h,m,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--sec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min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hr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ime(h,m,s)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perator --(int) // (postf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h,m,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secs--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min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hr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ime(h,m,s)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time1(5, 1, 1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time2(4, 30, 30); Time time5(1,1,1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time3, time4;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3=time1+time2;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3.display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time3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3.display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4=time1-time2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4.display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4=time4++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4.display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time6=--time5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6.display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5.display(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0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#include &lt;iostream&gt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Tim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hrs, mins, secs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() : hrs(0), mins(0), secs(0)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no-arg constructo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 }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(int h, int m, int s) : hrs(h), mins(m), secs(s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 }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display() cons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cout &lt;&lt; hrs &lt;&lt; “:” &lt;&lt; mins &lt;&lt; “:” &lt;&lt; secs&lt;&lt;endl; }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perator +(Time t2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s = secs + t2.secs;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m = mins + t2.mins;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h =hrs + t2.hrs;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 s &gt; 59 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 s -= 60; m++; }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 m &gt; 59 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m -= 60; h++; }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ime(h,m,s);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perator -(Time t2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h,m,s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 (hrs&gt;=t2.hrs)&amp;&amp;(mins&gt;=t2.mins)&amp;&amp;(secs&gt;=t2.secs) 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secs-t2.secs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mins-t2.mins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hrs-t2.hrs;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( (hrs&gt;=t2.hrs)&amp;&amp;(mins&gt;t2.mins)&amp;&amp;(secs&lt;t2.secs) 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secs+60-t2.secs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mins-1-t2.mins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hrs-t2.hrs;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( (hrs&gt;t2.hrs)&amp;&amp;(mins&lt;=t2.mins)&amp;&amp;(secs&lt;t2.secs) 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secs+60-t2.secs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mins-1+60-t2.mins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hrs-1-t2.hrs;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ime(h,m,s)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perator *(Time t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h,m,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sum=(hrs*t2.hrs)*3600+(mins*t2.mins)*60+(secs*t2.secs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(int)sum/360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((int)sum%3600)/6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((int)sum%3600)%6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ime(h,m,s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}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time1(5, 1, 1);         //creates and initial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time2(4, 30, 30);         //   two ti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time3;                          //create another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3=time1+time2;        //add two ti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3.display();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&lt;&lt;end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time4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4=time1-time2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time4.display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time5=time1*time2;  time5.display(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0;  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#include &lt;iostream.h&gt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include&lt;cmath.h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for labs() funcit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ch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fra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numerator, denominator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ction(int n,int d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rator=n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minator=d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input(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&lt;&lt;“Enter fraction\n”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&gt;&gt;numerator&gt;&gt;ch&gt;&gt;denominator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output(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&lt;&lt;“Fraction=“&lt;&lt;numerator&lt;&lt;ch&lt;&lt;denominator;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ction  operator +(fraction f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nu=(numerator*f2.denominator)+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2.numerator*denominator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de=f1.denominator*f2.denominator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fraction(nu,de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ction  operator -(fraction f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nu=(numerator*f2.denominator)-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2.numerator*denominator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de=f1.denominator*f2.denominator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fraction(nu,de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696960" y="990720"/>
            <a:ext cx="77500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ction operator * (fraction f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nu=numerator*f2.numerator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de=denominator*f2.denominator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fraction(nu,de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ction operator /(fraction f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nu=numerator*f2.denominator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de=denominator*f2.numerator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fraction(nu,de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lowterms(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l operator == (fraction f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nu1=numerator*f2.denominator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nu2=f2.numerator*denominator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nu1==nu2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rue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false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l operator != (fraction f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nu1=numerator*f2.denominator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nu2=f2.numerator*denominator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nu1!=nu2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rue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false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fraction::lowterms()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change ourself to lowest te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tnum, tden, temp, gcd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um = labs(numerator);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en = labs(denominator);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tden==0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cout &lt;&lt; “Illegal fraction: division by 0”; exit(1); 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( tnum==0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numerator=0; denominator = 1; return; 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(tnum != 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tnum &lt; tden)         // ensure numerator lar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temp=tnum; tnum=tden; tden=temp; }  // swap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um = tnum - tden;     // subtract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88400" indent="-157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cd = tden;                // this is greatest common divis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rator = numerator / gcd;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minator = denominator/ gcd;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main(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ction fra1,fra3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op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&lt;&lt;“first number\n"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1.input(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&lt;&lt;"second number\n"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ction fra2(5,8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3=fra1+fra2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3. lowterms(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3.output(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3=fra1+fra2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3. lowterms(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3.output(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3=fra1*fra2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3. lowterms(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3.output(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3=fra1/fra2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3. lowterms(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3.output(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0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fra1==fra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&lt;&lt;“First Number and Second are Equal\n”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&lt;&lt;“First Number and Second are Not Equal\n”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ction f4(4,5),f5(6,5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fra4!=fra5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&lt;&lt;“First Number and Second  are Not Equal\n”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&lt;&lt;“First Number and Second are Equal\n”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0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#include&lt;iostream.h&gt;  #include&lt;conio.h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upper,lower,temp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safea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arr[100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aray(int n,int 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=m-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temp&lt;1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lower=n;   upper=m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&lt;&lt;"You are out of bound\n"; exit(1);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&amp; operator [](int inde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 (index&gt;=lower) &amp;&amp;(index&lt;=upper)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=index-low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&lt;&lt;"\nIndex of 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&lt;&lt;temp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arr[index]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&lt;&lt;"You are out of bound\n"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aray sa1(5,14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temp=3445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result=0,i=12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{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1[i]=temp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=sa1[i]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&lt;&lt;"\nResult = "&lt;&lt;resu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&lt;&lt;"\n\n !Press c to continue or any key to exit."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++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while(getch()=='c'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#include&lt;iostream.h&gt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include&lt;math.h&gt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pola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radius,angle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: 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()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us=0.0;     angle=0.0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(float r, float a)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radius=r;     angle=a;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get_radius()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   return radius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get_angle(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    return angle;       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operator +(polar 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r1,r2,a1,a2, x1,x2,y1,y2, tempx,tempy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1=getradius();  </a:t>
            </a:r>
            <a:r>
              <a:rPr b="0" lang="pt-B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=getangle(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=p.getradius();   </a:t>
            </a:r>
            <a:r>
              <a:rPr b="0" lang="pt-B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2=p.getangle(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pt-B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1=r1*cos(a1);   </a:t>
            </a:r>
            <a:r>
              <a:rPr b="0" lang="pt-B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1=r1*sin(a1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2=r2*cos(a2);    </a:t>
            </a:r>
            <a:r>
              <a:rPr b="0" lang="pt-B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2=r2*sin(a2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x=x1+x2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y=y1+y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r=sqrt(tempx*tempx+tempy*tempy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a=atan(tempy/tempx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polar(r,a)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show(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&lt;&lt;"X</a:t>
            </a:r>
            <a:r>
              <a:rPr b="0" lang="fr-F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"&lt;&lt;radius*cos(angle)&lt;&lt;endl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&lt;&lt;"Y</a:t>
            </a:r>
            <a:r>
              <a:rPr b="0" lang="fr-F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"&lt;&lt;radius*sin(angle)&lt;&lt;endl;   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main(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p1(),p2(),p3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1.show();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2.show(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3=p1+p2;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3.show(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0;   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 arg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e parameters that are passed to operator overloading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 Return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e return values that are returned form operator overloading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#include&lt;iostream.h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ch=‘.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ster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pounds ; int shillings, pence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ling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nds=0;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llings=0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ce=0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ling(double 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temp=(int)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temp2=s-temp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temp3=ceil(temp2*240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nds=temp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llings=ceil(temp3/12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ce=ceil((int)temp3%12)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ling (long p, int s, int p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nds=p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llings=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ce=pe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getSterling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&lt;&lt;“Enter sterling\n”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&gt;&gt;pounds&gt;&gt;ch&gt;&gt;shillings&gt;&gt;ch&gt;&gt;pence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putSterling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&lt;&lt;“\x9c”&lt;&lt;pounds&lt;&lt;ch&lt;&lt;shillings&lt;&lt;ch&lt;&lt;pence&lt;&lt;endl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terling operator +(sterling s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{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ong pd; int sh,pe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d=pounds+s2.pound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h=shillings+s2.shilling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e=pence+s2.pence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f(pe&gt;=12) 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{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h+=pe/1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e=pe%12;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f(sh&gt;=20)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{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d+=sh/20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h=sh%20;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return sterling(pd,sh,pe); 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ling operator +(sterling s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urn sterling( double(sterling(pounds, shillings, pence)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double(s2) 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ling operator *(sterling s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pd; int sh,pe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=pounds*s2.pound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=shillings*s2.shilling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=pence*s2.pence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pe&gt;=1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+=pe/1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=pe%12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sh&gt;=20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+=sh/20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=sh%20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sterling(pd,sh,pe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ling operator *(sterling s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sterling(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u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terling(pounds, shillings, p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u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2) 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ling operator -(sterling s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t1,t2; double resul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=pounds+shillings*20+pence*240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=s2.pounds+s2.shillings*20+s2.pence*240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t1&gt;t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=t1-t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&lt;&lt;“Second Sterling is greater \n”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t(1)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sterling(result); 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ling operator /(sterling s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t1,t2; double resul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= t1=pounds+(double)shillings/20+(double)pence/240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= s2.pounds+(double)s2.shillings/20+(double)s2.pence/240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=t1/t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sterling(result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ling operator /(double di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t1; double resul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=pounds+(double)shillings/20+(double)pence/240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=(t1/div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sterling(result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 double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result=pounds+(double)shillings/20+(double)pence/24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(resul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main(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d=2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ling s1(2,2,8)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use three arguments construct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ling s2(1,2,8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ling s3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use default construct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ling s4(5.133333)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use one argument construct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4.putSterling(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=s1+s2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.putSterling(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=s1-s2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.putSterling(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=s1*s2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.putSterling(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=s1/s2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.putSterling(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=s1/d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.putSterling(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ling s5(7,17,9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temp=s5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sterling to double op over fu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&lt;&lt;"Double result="&lt;&lt;temp&lt;&lt;endl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0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oading Unary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include &lt;iostream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Coun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signed int coun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er c1,c2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ut &lt;&lt; “\nc1=” 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er(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unt(0) { 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1.get_count(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signed int get_coun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ut &lt;&lt; “\nc2=” &lt;&lt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return count; 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2.get_count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un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ator ++ () //increment 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+c1;c2 = ++c1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+coun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ut &lt;&lt; “\nc1=” &lt;&lt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er temp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1.get_count(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.count = coun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ut &lt;&lt; “\nc2=” &lt;&lt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emp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2.get_count()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urn 0;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No arguments but have return 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Postfix Not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ere the variable is incremented after its value is used in the expression.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++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Count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signed int count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er() : count(0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er(int c) : count(c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signed int get_count() const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return count; 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er operator ++ (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Counter(++count);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er operator ++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int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increment count (postfix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Counter(count++);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4T14:52:29Z</dcterms:created>
  <dc:creator>Guest</dc:creator>
  <dc:description/>
  <dc:language>en-US</dc:language>
  <cp:lastModifiedBy>Dell</cp:lastModifiedBy>
  <dcterms:modified xsi:type="dcterms:W3CDTF">2016-07-09T14:06:56Z</dcterms:modified>
  <cp:revision>105</cp:revision>
  <dc:subject/>
  <dc:title>Chapter 8 Operator Overloading</dc:title>
</cp:coreProperties>
</file>